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716-1448-4D20-8506-14343311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F4D-FD16-4F73-A7B2-E4B6BD46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102-9B62-4204-A640-FDA75D99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2C4-4414-41D3-B3E9-9CED1DF5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458-EE49-4399-92E9-05884368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CF7-F763-48E4-99B6-F076FA8D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A7F-CDD3-49B1-AC55-F25CE1DC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A3E-E747-409F-877F-EAF5E69F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B3E-1ABC-445B-B7F2-B3C382C9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BBB-9657-4F56-923F-E3DA33A9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9CC-C599-4D4B-B8DF-FA61E804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885-F794-477A-9604-B28B4DF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BA4-C79E-4625-A9EE-ABDAEAA00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ember 21 Homework Hel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et up for Cross Multip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by Step Solution to Ques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447920" y="2743200"/>
                <a:ext cx="10224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993960" y="1143000"/>
            <a:ext cx="66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calls in 12 hours  =  ______   calls in 3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4120" y="1905120"/>
            <a:ext cx="467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 up an equivalent 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613520" y="2880720"/>
            <a:ext cx="7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7520" y="4191120"/>
            <a:ext cx="6524280" cy="380880"/>
            <a:chOff x="1217520" y="4191120"/>
            <a:chExt cx="6524280" cy="380880"/>
          </a:xfrm>
        </p:grpSpPr>
        <p:sp>
          <p:nvSpPr>
            <p:cNvPr id="49" name=""/>
            <p:cNvSpPr/>
            <p:nvPr/>
          </p:nvSpPr>
          <p:spPr>
            <a:xfrm>
              <a:off x="1217520" y="4191120"/>
              <a:ext cx="622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vide both sides by whatever number is in front of th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7391160" y="4191120"/>
                  <a:ext cx="350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1" name=""/>
          <p:cNvGrpSpPr/>
          <p:nvPr/>
        </p:nvGrpSpPr>
        <p:grpSpPr>
          <a:xfrm>
            <a:off x="2362320" y="4800600"/>
            <a:ext cx="2987280" cy="837720"/>
            <a:chOff x="2362320" y="4800600"/>
            <a:chExt cx="2987280" cy="83772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178160" y="4800600"/>
                  <a:ext cx="117144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2362320" y="4925880"/>
              <a:ext cx="169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o you get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4400" y="5791320"/>
            <a:ext cx="7086240" cy="633240"/>
            <a:chOff x="914400" y="5791320"/>
            <a:chExt cx="7086240" cy="633240"/>
          </a:xfrm>
        </p:grpSpPr>
        <p:sp>
          <p:nvSpPr>
            <p:cNvPr id="55" name=""/>
            <p:cNvSpPr/>
            <p:nvPr/>
          </p:nvSpPr>
          <p:spPr>
            <a:xfrm>
              <a:off x="914400" y="5904000"/>
              <a:ext cx="51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he 12’s cancel and you ge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6026040" y="5791320"/>
                  <a:ext cx="1974600" cy="49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3274200" y="2971800"/>
            <a:ext cx="3529080" cy="916920"/>
            <a:chOff x="3274200" y="2971800"/>
            <a:chExt cx="3529080" cy="916920"/>
          </a:xfrm>
        </p:grpSpPr>
        <p:grpSp>
          <p:nvGrpSpPr>
            <p:cNvPr id="58" name=""/>
            <p:cNvGrpSpPr/>
            <p:nvPr/>
          </p:nvGrpSpPr>
          <p:grpSpPr>
            <a:xfrm>
              <a:off x="3274200" y="2971800"/>
              <a:ext cx="3529080" cy="916920"/>
              <a:chOff x="3274200" y="2971800"/>
              <a:chExt cx="3529080" cy="916920"/>
            </a:xfrm>
          </p:grpSpPr>
          <p:sp>
            <p:nvSpPr>
              <p:cNvPr id="59" name=""/>
              <p:cNvSpPr/>
              <p:nvPr/>
            </p:nvSpPr>
            <p:spPr>
              <a:xfrm>
                <a:off x="3274200" y="2971800"/>
                <a:ext cx="3529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n cross multiply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2 times           = 12      = 48 x 3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4282920" y="3544920"/>
                    <a:ext cx="27900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425920" y="3544920"/>
                  <a:ext cx="2790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21:51:56Z</dcterms:created>
  <dc:creator>admin</dc:creator>
  <dc:description/>
  <dc:language>en-US</dc:language>
  <cp:lastModifiedBy>admin</cp:lastModifiedBy>
  <dcterms:modified xsi:type="dcterms:W3CDTF">2007-11-21T22:21:26Z</dcterms:modified>
  <cp:revision>2</cp:revision>
  <dc:subject/>
  <dc:title>November 21 Homework Help </dc:title>
</cp:coreProperties>
</file>